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B84-BDB8-436A-83C9-10E10E25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2F62-5BE4-44B3-82EB-1D3398D1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C9D-D965-4239-8ACB-790FB743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FDE-DF65-4C54-A4D0-3FC171EA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8280-6981-4D98-920B-BDC81786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5A08-B9C4-44EA-8195-A107370A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3776-D9FA-41E5-94A6-83003202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67D7-1AC7-4C6B-A170-7AD2F64B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7BED-1599-43FB-BD9F-299A456A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A1CB-CDD9-44C5-ADA4-F366E475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A858-5F13-4768-A2B2-60B5DE43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7EE-1D24-43FD-A457-F04AB016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D91D-DCB8-4C4D-B521-74E7B91D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65EA-0E43-4D08-9236-CB52C36C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14F3-7C85-47FF-9861-D8C0AF15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4866-AADE-4C19-8E4D-49D41A21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106F-8246-4D6F-94D0-1A563954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90601-3FCE-4AE5-8257-D561462E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7DA06-901F-4508-AF0F-7AA2B680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D1BB7-29A2-42DC-B68B-9464446D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8C311-A74E-46FD-A835-95D3F35E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459E-BE7A-4C2F-8A5D-C59D70E6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3351-FCAF-45B7-9AB7-C54F99DE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C09CF-3066-448D-ADD5-70589169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80D19-22CA-46CD-9DF2-02CB68A6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2039A-5C34-4A16-B621-3FD3CFD4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8494-B661-427B-808A-432ED5C7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EF034-B137-4A9A-9D1A-8E53D332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68423-8A76-4FB4-8F50-AD4E2AC3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1B13-E44F-467A-A644-248AB051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2485B-A765-448C-AA78-5B39E6EB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927B7-9EFC-4F08-9A06-4881B75F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5FA68-47EA-44A8-94C8-8A495424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6B6-2DB6-41CF-904A-36BB8100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DF350-E6AB-444E-9C56-299A2D03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FD8FA-8C6B-441F-B425-75469F64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613AF-A03C-4B77-9A08-9BEA64EC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C752E-D3A4-4FCB-BF18-38B9ED9B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25180-D323-4C9B-9FB6-63663AFB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30E5F-723A-4378-B417-166E54AB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D1328-C640-497B-9D68-1B5377E3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076D5-DECC-45CE-8AC2-AF1E0C87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7E242-5522-4829-851B-04205319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01523-CA68-430D-A29A-A4A10784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3C5-9374-41EE-8846-B2AF05EB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2AEF4-2894-42DE-A9EF-9D84CB27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3B7CA-A7F0-4A88-BF32-B23D5260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B631B-14E3-4C07-8AD6-90D3CED4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EFFA5-36EA-4C12-9054-E2B0D96B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EBC13-C095-496A-883A-D1BA46C3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81845-1CF8-4142-A968-2C2CB55B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A5FE4-BA3B-43E6-8161-A0120095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DFDE8-D6DD-451F-95AB-0C62EB60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3D6F4-BAFF-41F6-A6E9-239EE43F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0334C-8CF9-4D30-A604-01C3D746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56B-9E64-48F0-B3BA-A70FEA3F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1D1C5-D511-45F1-BA9E-7371BFFF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027-6D43-45EF-B5AF-4C2B57F8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2F9-0F00-43E7-B5F0-D9025BAC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0FC-D423-400B-A29E-11C55650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A0B8-FFCC-4E46-8C26-6FF9C86F9FF3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32B6-8680-4E5C-BB0A-1444FF5E5776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B31B-0E16-4AD5-B352-BE8B669E6BDE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B7AB-CF88-4A9B-B0F0-5F38D5821F6C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E22D-B8C2-4F5D-A4BA-E4C25ECAFE63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89040" y="907920"/>
            <a:ext cx="7772400" cy="21592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" descr="autism_ABA.jpg"/>
          <p:cNvPicPr/>
          <p:nvPr/>
        </p:nvPicPr>
        <p:blipFill>
          <a:blip r:embed="rId2"/>
          <a:stretch/>
        </p:blipFill>
        <p:spPr>
          <a:xfrm>
            <a:off x="2700360" y="3573360"/>
            <a:ext cx="4248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2124000" y="404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611280" y="1341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95280" y="146592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ольская О.С., Баенская Е. Р., Либлинг М. М. «Аутичный ребенок. Пути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риева Л. Г. «Развитие речи у аутичных де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берт Шрамм «Детский аутизм и АВА. АВА: терапия, основанная на методах прикладного анализа повед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нушко Е. А. «Игры с аутичным ребенк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971640" y="836640"/>
            <a:ext cx="712944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i="1" lang="ru-RU" sz="2800" spc="-1" strike="noStrike" u="sng">
                <a:solidFill>
                  <a:srgbClr val="604a7b"/>
                </a:solidFill>
                <a:uFillTx/>
                <a:latin typeface="Trebuchet MS"/>
              </a:rPr>
              <a:t>Основные направления работы с детьми с аутизм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. Установление эмоционального контакта и выработка продуктивных форм взаимодейств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. Построение на их основе программы социально-бытовой адаптации, а также систематическая работа с родителями, обучение их эффективному лечебно-педагогическому поведению в домашних условиях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3. Подготовка к школе, включающая освоение им новой социальной роли ученика, элементарных навыков письма, счета, чтения, работу по развитию внимания, памяти, воображения, общей и тонкой моторики, выявление и развитие творческих способностей детей, развитие речи и коммуникативных навы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971640" y="836640"/>
            <a:ext cx="72007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rebuchet MS"/>
                <a:ea typeface="Arial"/>
              </a:rPr>
              <a:t>Психолого-педагогические методы и формы коррекционной работы с аутичными деть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Applied behavior analysis, ABA, или “Модификация поведения”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- Floor Time (“игровое время”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тие межличностных отношений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РМО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(Relationship Development Intervention, RDI)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Методик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TEACCH (Treatment an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Education for Autistic and relate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Communication handicapped Children)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Сенсорная интеграц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Песочная терап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Анималотерап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Метод совместного рис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971640" y="907920"/>
            <a:ext cx="74167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Trebuchet MS"/>
              </a:rPr>
              <a:t>Этапы логопедической работы (Нуриева Л. Г.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ервичный конта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бота над первичными учебными навы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бота над указательным жестом и жестами «да» и «нет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бучение чт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1116000" y="692280"/>
            <a:ext cx="6912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Виды логопедическо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Тренинг с использованием запах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тия артикуляторного пракси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бота над структурой простого предло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грамматического строя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бота над расширением фразы, над естественным звучанием голо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монологи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1"/>
          <a:stretch/>
        </p:blipFill>
        <p:spPr>
          <a:xfrm>
            <a:off x="476280" y="1298520"/>
            <a:ext cx="8002440" cy="4864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1979640" y="549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rebuchet MS"/>
                <a:ea typeface="Arial"/>
              </a:rPr>
              <a:t>Обучение чт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684360" y="549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2" descr="мяч.jpg"/>
          <p:cNvPicPr/>
          <p:nvPr/>
        </p:nvPicPr>
        <p:blipFill>
          <a:blip r:embed="rId1"/>
          <a:stretch/>
        </p:blipFill>
        <p:spPr>
          <a:xfrm>
            <a:off x="755640" y="9810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кукла.jpg"/>
          <p:cNvPicPr/>
          <p:nvPr/>
        </p:nvPicPr>
        <p:blipFill>
          <a:blip r:embed="rId2"/>
          <a:stretch/>
        </p:blipFill>
        <p:spPr>
          <a:xfrm>
            <a:off x="2700360" y="981000"/>
            <a:ext cx="974880" cy="1152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427640" y="1052640"/>
            <a:ext cx="129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4427640" y="907920"/>
            <a:ext cx="91440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4356000" y="1844640"/>
            <a:ext cx="122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4356000" y="1700280"/>
            <a:ext cx="1079640" cy="4334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у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755640" y="2492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нимание письменных инстру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0"/>
          <p:cNvSpPr/>
          <p:nvPr/>
        </p:nvSpPr>
        <p:spPr>
          <a:xfrm>
            <a:off x="755640" y="3068640"/>
            <a:ext cx="259236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жи 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1"/>
          <p:cNvSpPr/>
          <p:nvPr/>
        </p:nvSpPr>
        <p:spPr>
          <a:xfrm>
            <a:off x="4067280" y="3068640"/>
            <a:ext cx="288108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ойди к ок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2"/>
          <p:cNvSpPr/>
          <p:nvPr/>
        </p:nvSpPr>
        <p:spPr>
          <a:xfrm>
            <a:off x="755640" y="3789360"/>
            <a:ext cx="259236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жи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3"/>
          <p:cNvSpPr/>
          <p:nvPr/>
        </p:nvSpPr>
        <p:spPr>
          <a:xfrm>
            <a:off x="4067280" y="3789360"/>
            <a:ext cx="288108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ойди к шка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826920" y="4724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предлож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6" descr="кошка сидит.jpg"/>
          <p:cNvPicPr/>
          <p:nvPr/>
        </p:nvPicPr>
        <p:blipFill>
          <a:blip r:embed="rId3"/>
          <a:stretch/>
        </p:blipFill>
        <p:spPr>
          <a:xfrm>
            <a:off x="684360" y="5157720"/>
            <a:ext cx="1019160" cy="12956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7" descr="кошка лежит.jpg"/>
          <p:cNvPicPr/>
          <p:nvPr/>
        </p:nvPicPr>
        <p:blipFill>
          <a:blip r:embed="rId4"/>
          <a:stretch/>
        </p:blipFill>
        <p:spPr>
          <a:xfrm>
            <a:off x="1979640" y="515772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8" descr="кошка идет.jpg"/>
          <p:cNvPicPr/>
          <p:nvPr/>
        </p:nvPicPr>
        <p:blipFill>
          <a:blip r:embed="rId5"/>
          <a:stretch/>
        </p:blipFill>
        <p:spPr>
          <a:xfrm>
            <a:off x="3851280" y="5229360"/>
            <a:ext cx="14414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9"/>
          <p:cNvSpPr/>
          <p:nvPr/>
        </p:nvSpPr>
        <p:spPr>
          <a:xfrm>
            <a:off x="5651640" y="4869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ид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0"/>
          <p:cNvSpPr/>
          <p:nvPr/>
        </p:nvSpPr>
        <p:spPr>
          <a:xfrm>
            <a:off x="5651640" y="5445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си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1"/>
          <p:cNvSpPr/>
          <p:nvPr/>
        </p:nvSpPr>
        <p:spPr>
          <a:xfrm>
            <a:off x="5651640" y="6093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3"/>
          <p:cNvSpPr/>
          <p:nvPr/>
        </p:nvSpPr>
        <p:spPr>
          <a:xfrm>
            <a:off x="2050920" y="26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лобаль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2"/>
          <p:cNvSpPr/>
          <p:nvPr/>
        </p:nvSpPr>
        <p:spPr>
          <a:xfrm>
            <a:off x="2700360" y="333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огов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3880" y="1397160"/>
          <a:ext cx="3911760" cy="701640"/>
        </p:xfrm>
        <a:graphic>
          <a:graphicData uri="http://schemas.openxmlformats.org/drawingml/2006/table">
            <a:tbl>
              <a:tblPr/>
              <a:tblGrid>
                <a:gridCol w="978120"/>
                <a:gridCol w="977760"/>
                <a:gridCol w="978120"/>
                <a:gridCol w="97776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50" name="TextBox 21"/>
          <p:cNvSpPr/>
          <p:nvPr/>
        </p:nvSpPr>
        <p:spPr>
          <a:xfrm>
            <a:off x="755640" y="9079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 открытых слогов (принцип ло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755640" y="256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, составленных из слогов закрыто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900000" y="3573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2195640" y="285264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2195640" y="3429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2195640" y="40053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Прямая со стрелкой 29"/>
          <p:cNvCxnSpPr/>
          <p:nvPr/>
        </p:nvCxnSpPr>
        <p:spPr>
          <a:xfrm flipV="1">
            <a:off x="1476360" y="3357000"/>
            <a:ext cx="720000" cy="43236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Прямая со стрелкой 31"/>
          <p:cNvCxnSpPr>
            <a:endCxn id="254" idx="1"/>
          </p:cNvCxnSpPr>
          <p:nvPr/>
        </p:nvCxnSpPr>
        <p:spPr>
          <a:xfrm flipV="1">
            <a:off x="1547640" y="3812760"/>
            <a:ext cx="648360" cy="4824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>
            <a:endCxn id="255" idx="1"/>
          </p:cNvCxnSpPr>
          <p:nvPr/>
        </p:nvCxnSpPr>
        <p:spPr>
          <a:xfrm>
            <a:off x="1547640" y="4005000"/>
            <a:ext cx="648360" cy="38484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TextBox 34"/>
          <p:cNvSpPr/>
          <p:nvPr/>
        </p:nvSpPr>
        <p:spPr>
          <a:xfrm>
            <a:off x="900000" y="494172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, где буквы написаны на значительном расстоянии (10—15 см) друг от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5"/>
          <p:cNvSpPr/>
          <p:nvPr/>
        </p:nvSpPr>
        <p:spPr>
          <a:xfrm>
            <a:off x="684360" y="573264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______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7"/>
          <p:cNvSpPr/>
          <p:nvPr/>
        </p:nvSpPr>
        <p:spPr>
          <a:xfrm>
            <a:off x="4140360" y="57326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______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1835280" y="6206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налитико-синтетическ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1"/>
          <p:cNvPicPr/>
          <p:nvPr/>
        </p:nvPicPr>
        <p:blipFill>
          <a:blip r:embed="rId1"/>
          <a:stretch/>
        </p:blipFill>
        <p:spPr>
          <a:xfrm>
            <a:off x="1042920" y="1557360"/>
            <a:ext cx="5329440" cy="17272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1187280" y="1125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то для определения первого, последнего зву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1258920" y="3789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бор картинок на задан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1"/>
          <p:cNvPicPr/>
          <p:nvPr/>
        </p:nvPicPr>
        <p:blipFill>
          <a:blip r:embed="rId2"/>
          <a:stretch/>
        </p:blipFill>
        <p:spPr>
          <a:xfrm>
            <a:off x="1042920" y="4797360"/>
            <a:ext cx="3038400" cy="17528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6"/>
          <p:cNvSpPr/>
          <p:nvPr/>
        </p:nvSpPr>
        <p:spPr>
          <a:xfrm>
            <a:off x="1187280" y="4076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3132000" y="4076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19:01:06Z</dcterms:created>
  <dc:creator>Дружинины</dc:creator>
  <dc:description/>
  <dc:language>en-US</dc:language>
  <cp:lastModifiedBy>ольга мамадалиева</cp:lastModifiedBy>
  <dcterms:modified xsi:type="dcterms:W3CDTF">2021-01-25T15:37:30Z</dcterms:modified>
  <cp:revision>143</cp:revision>
  <dc:subject/>
  <dc:title>Методы работы при аутизме</dc:title>
</cp:coreProperties>
</file>